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D47-53E9-45A9-BC68-BFCDB65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526-9625-494F-A2CA-21CC6F3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3D6-3488-4DE1-A3F9-2372C4EF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E26-1E72-4C5C-ADBB-6064C996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E45-7178-4F4C-9969-50435A6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A76-3E1F-4BCF-A166-0FBD63E2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F1D-18E4-4AEC-8290-296C9C6E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FC3-ED14-4D3F-993D-15ADFE7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A08-B420-4385-B8EA-7F5C0E29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ABB-0007-4B7A-86DB-934C6A6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AA1-1FDD-4CFF-85BE-6ACD1B17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D47-7EE2-4447-9C09-A2A2DF1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B74-B061-4C7E-80EF-21F8B4CF710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0880" y="0"/>
            <a:ext cx="8964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r>
              <a:rPr b="1" lang="lv-LV" sz="5500" spc="-1" strike="noStrike">
                <a:solidFill>
                  <a:srgbClr val="000000"/>
                </a:solidFill>
                <a:latin typeface="Impress TL"/>
              </a:rPr>
              <a:t>Radošā apvienībā “S&amp;G”</a:t>
            </a:r>
            <a:r>
              <a:rPr b="1" lang="lv-LV" sz="4000" spc="-1" strike="noStrike">
                <a:solidFill>
                  <a:srgbClr val="000000"/>
                </a:solidFill>
                <a:latin typeface="Impress TL"/>
              </a:rPr>
              <a:t> </a:t>
            </a:r>
            <a:r>
              <a:rPr b="1" lang="lv-LV" sz="8000" spc="-1" strike="noStrike">
                <a:solidFill>
                  <a:srgbClr val="000000"/>
                </a:solidFill>
                <a:latin typeface="Impress TL"/>
              </a:rPr>
              <a:t>PIEDĀV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4120" y="3212640"/>
            <a:ext cx="87854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4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4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4400" spc="-1" strike="noStrike">
                <a:solidFill>
                  <a:srgbClr val="000000"/>
                </a:solidFill>
                <a:latin typeface="Impress TL"/>
              </a:rPr>
              <a:t>    </a:t>
            </a:r>
            <a:r>
              <a:rPr b="0" lang="lv-LV" sz="4400" spc="-1" strike="noStrike">
                <a:solidFill>
                  <a:srgbClr val="000000"/>
                </a:solidFill>
                <a:latin typeface="Impress TL"/>
              </a:rPr>
              <a:t>Koncertuzvedum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“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Es ceļos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ES neceļos..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us_2"/>
          <p:cNvPicPr/>
          <p:nvPr/>
        </p:nvPicPr>
        <p:blipFill>
          <a:blip r:embed="rId1"/>
          <a:stretch/>
        </p:blipFill>
        <p:spPr>
          <a:xfrm>
            <a:off x="55440" y="2639880"/>
            <a:ext cx="4035600" cy="59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Impress TL"/>
              </a:rPr>
              <a:t>Koncertuzvedums </a:t>
            </a:r>
            <a:br>
              <a:rPr sz="4000"/>
            </a:br>
            <a:r>
              <a:rPr b="0" lang="lv-LV" sz="6000" spc="-1" strike="noStrike">
                <a:solidFill>
                  <a:srgbClr val="000000"/>
                </a:solidFill>
                <a:latin typeface="Impress TL"/>
              </a:rPr>
              <a:t>“Es ceļos...ES neceļos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Impress TL"/>
              </a:rPr>
              <a:t>Ir muzikāls stāsts par vienkāršu lauku šoferi un viņa piedzīvojumiem, tiekoties ar visdažādāko tipāžu cilvēkiem, visneiedomājamākajās dzīves situācijās, plašajos Latvijas ceļos un neceļos.</a:t>
            </a:r>
            <a:r>
              <a:rPr b="0" lang="lv-LV" sz="3200" spc="-1" strike="noStrike">
                <a:solidFill>
                  <a:srgbClr val="000000"/>
                </a:solidFill>
                <a:latin typeface="Impress T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Impress TL"/>
              </a:rPr>
              <a:t>Koncertuzvedumā skanēs Valda Artava visos laikos  aktuālie un pikantie dzejoļi un populārās Raimonda Paula dziesmas, kurās publika dziedot līdz varēs noskaidrot , - Ko dakteris  dos?  Un kur palika vilks ar aitiņu!  Dažus skarbus piparus koncertuzvedeumam piemetīs Kaspara Dimitera ironiskās balā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-108000" y="0"/>
            <a:ext cx="925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Impress TL"/>
              </a:rPr>
              <a:t>Koncertuzvedumā piedalā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Valdis Pavlovskis – </a:t>
            </a:r>
            <a:r>
              <a:rPr b="0" lang="lv-LV" sz="2400" spc="-1" strike="noStrike">
                <a:solidFill>
                  <a:srgbClr val="000000"/>
                </a:solidFill>
                <a:latin typeface="Impress T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aktieris, dramaturgs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   un režisors. Strādājis dažādos teātros, šobrīd 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aktīvi darbojas Latvijas leļļu teātrī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  </a:t>
            </a: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Guntis Brutāns -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Kolberģa t/n mūzikas dzīves bijuš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vadītājs, grupas “Varavīksne” muzikālais vadītāj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spēlējis Ergo džezroka ansamblī, ansamblis “Meloss”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  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izveidojis muzikālo teātri. Ar Kasparu Dimiteru izveidoj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muzikālo projektu “Slēģi”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468360" y="393372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IMGP2667"/>
          <p:cNvPicPr/>
          <p:nvPr/>
        </p:nvPicPr>
        <p:blipFill>
          <a:blip r:embed="rId1"/>
          <a:stretch/>
        </p:blipFill>
        <p:spPr>
          <a:xfrm>
            <a:off x="6297480" y="3328920"/>
            <a:ext cx="2700360" cy="34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456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3628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Santa Sāre</a:t>
            </a:r>
            <a:r>
              <a:rPr b="1" lang="lv-LV" sz="2000" spc="-1" strike="noStrike">
                <a:solidFill>
                  <a:srgbClr val="000000"/>
                </a:solidFill>
                <a:latin typeface="Impress TL"/>
              </a:rPr>
              <a:t> -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Impress TL"/>
              </a:rPr>
              <a:t>Jauno zvaigžņu aģentūras sastāvā, piedalījusies vairākās L.I.Purmalietes muzikālajās izrādēs, dažādu vokālistu konkursu laureāte, konkursa “Putnu bērni 2003” galvenās balvas ieguvēja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lv-LV" sz="2400" spc="-1" strike="noStrike">
                <a:solidFill>
                  <a:srgbClr val="000000"/>
                </a:solidFill>
                <a:latin typeface="Impress TL"/>
              </a:rPr>
              <a:t>Gundars Caun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GP2663"/>
          <p:cNvPicPr/>
          <p:nvPr/>
        </p:nvPicPr>
        <p:blipFill>
          <a:blip r:embed="rId1"/>
          <a:stretch/>
        </p:blipFill>
        <p:spPr>
          <a:xfrm>
            <a:off x="179280" y="2060640"/>
            <a:ext cx="2409840" cy="360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"/>
          <p:cNvPicPr/>
          <p:nvPr/>
        </p:nvPicPr>
        <p:blipFill>
          <a:blip r:embed="rId2"/>
          <a:stretch/>
        </p:blipFill>
        <p:spPr>
          <a:xfrm>
            <a:off x="5999040" y="2908440"/>
            <a:ext cx="284004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200" spc="-1" strike="noStrike">
                <a:solidFill>
                  <a:srgbClr val="000000"/>
                </a:solidFill>
                <a:latin typeface="Impress TL"/>
              </a:rPr>
              <a:t>ATSAUKSM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Alūksnes novada kultūras un sporta nodaļas vadītāja - Sanita Eglīte</a:t>
            </a:r>
            <a:br>
              <a:rPr sz="2800"/>
            </a:b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Astrīda Bētere</a:t>
            </a:r>
            <a:br>
              <a:rPr sz="2800"/>
            </a:b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Kocēnu kultūras dzīves vadītāja – Ināra Blūma</a:t>
            </a:r>
            <a:br>
              <a:rPr sz="2800"/>
            </a:b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Apes tautas nama vadītāja – Ilva Sāre</a:t>
            </a:r>
            <a:br>
              <a:rPr sz="2800"/>
            </a:br>
            <a:br>
              <a:rPr sz="2800"/>
            </a:br>
            <a:r>
              <a:rPr b="0" lang="lv-LV" sz="2400" spc="-1" strike="noStrike">
                <a:solidFill>
                  <a:srgbClr val="000000"/>
                </a:solidFill>
                <a:latin typeface="Impress TL"/>
              </a:rPr>
              <a:t>Zosēnu tautas nams, Krustpils kultūras nams, Straupes kultūras nams, Suntažu kultūras nams, Dzelzavas kultūras nams, Rankas kultūras n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800" spc="-1" strike="noStrike">
                <a:solidFill>
                  <a:srgbClr val="000000"/>
                </a:solidFill>
                <a:latin typeface="Impress TL"/>
              </a:rPr>
              <a:t>Cerībā uz veiksmīgu sadarbību, </a:t>
            </a:r>
            <a:br>
              <a:rPr sz="4800"/>
            </a:br>
            <a:r>
              <a:rPr b="0" lang="lv-LV" sz="4800" spc="-1" strike="noStrike">
                <a:solidFill>
                  <a:srgbClr val="000000"/>
                </a:solidFill>
                <a:latin typeface="Impress TL"/>
              </a:rPr>
              <a:t>RADOŠĀ APVIENĪBA </a:t>
            </a:r>
            <a:br>
              <a:rPr sz="4800"/>
            </a:br>
            <a:r>
              <a:rPr b="0" lang="lv-LV" sz="4800" spc="-1" strike="noStrike">
                <a:solidFill>
                  <a:srgbClr val="000000"/>
                </a:solidFill>
                <a:latin typeface="Impress TL"/>
              </a:rPr>
              <a:t>S&amp;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Izmaksas individuāli vienojo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Impress TL"/>
              </a:rPr>
              <a:t>Pēc koncerta piedāvājam «Pa – Pa blices balli»</a:t>
            </a:r>
            <a:br>
              <a:rPr sz="4800"/>
            </a:b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Impress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Impress TL"/>
              </a:rPr>
              <a:t>Kontaktpersona: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Impress TL"/>
              </a:rPr>
              <a:t>Guntis Brutāns, tel. 27802950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Impress TL"/>
              </a:rPr>
              <a:t>e – pasts: </a:t>
            </a:r>
            <a:r>
              <a:rPr b="0" lang="lv-LV" sz="3200" spc="-1" strike="noStrike" u="sng">
                <a:solidFill>
                  <a:srgbClr val="009999"/>
                </a:solidFill>
                <a:uFillTx/>
                <a:latin typeface="Impress TL"/>
              </a:rPr>
              <a:t>radosaapvieniba@inbox.lv</a:t>
            </a:r>
            <a:br>
              <a:rPr sz="3200"/>
            </a:br>
            <a:br>
              <a:rPr sz="3200"/>
            </a:br>
            <a:r>
              <a:rPr b="0" lang="lv-LV" sz="3200" spc="-1" strike="noStrike" u="sng">
                <a:solidFill>
                  <a:srgbClr val="009999"/>
                </a:solidFill>
                <a:uFillTx/>
                <a:latin typeface="Impress T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8:35:59Z</dcterms:created>
  <dc:creator>Sanitas</dc:creator>
  <dc:description/>
  <dc:language>en-US</dc:language>
  <cp:lastModifiedBy>Saieta_nams</cp:lastModifiedBy>
  <dcterms:modified xsi:type="dcterms:W3CDTF">2011-04-19T10:46:00Z</dcterms:modified>
  <cp:revision>8</cp:revision>
  <dc:subject/>
  <dc:title>Slide 1</dc:title>
</cp:coreProperties>
</file>